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wmf" ContentType="image/x-wmf"/>
  <Override PartName="/ppt/media/image13.jpeg" ContentType="image/jpeg"/>
  <Override PartName="/ppt/media/image44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3B6AA-778F-4814-8B17-03802925E6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wo of the mayor ways in which these variables influence SWB are b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hancing positive interpretations of life ev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b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stering the pursuit of life-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9AC-5313-45FC-BEB7-A501CF57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58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29200"/>
            <a:ext cx="7658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692-8C77-4536-BA84-8B25FF6C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332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E88-B4E3-48BC-8479-32F27657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8440" y="198108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98108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2920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8440" y="412920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412920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BC9-0FE6-4B7F-A996-9C4EBC81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1501-5604-4F55-BFE1-43E3F67B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58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A146-C803-4670-9944-13F07CA7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582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C0A1-6AF7-4A08-B046-AED86058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93D-9557-46CB-9246-09E433A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ACF-3894-43C9-9FF2-3C9E87A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2040" y="96840"/>
            <a:ext cx="71546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431-3BC7-4CEB-A46E-497AF174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E2A7-3772-4F1A-A99C-5EA83FF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58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AAA-922A-4F41-A10B-26B50A81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332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4E54-15AE-43B0-BA14-74CBE38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29200"/>
            <a:ext cx="7658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43F-D26E-4382-A663-F76F7F5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58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29200"/>
            <a:ext cx="7658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64F0-B754-4117-8ACA-9F3D34A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332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511C-4DDD-4388-9062-FA3EC41D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8440" y="198108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7560" y="198108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2920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8440" y="412920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7560" y="4129200"/>
            <a:ext cx="24656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8F21-3EF7-40DA-B806-009B4F9B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582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BFB-896F-4B2B-88F9-C29A6E6D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913-FE19-4083-981E-E4DFA79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EC9-78D0-4A44-AFA7-16697CF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2040" y="96840"/>
            <a:ext cx="71546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D30C-EBBA-4A40-A7B7-4D1AECF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2B4-F320-468A-A238-1F60D7C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3320" y="412920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7A6-C1EB-4953-B688-91274C10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3320" y="1981080"/>
            <a:ext cx="3737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29200"/>
            <a:ext cx="7658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0BD-05B2-4A77-AFF5-F775FA3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154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582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43992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0600" indent="-40176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7960" indent="-3826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6760" indent="-38736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5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6107D-27B6-461C-BF13-5D8042B0930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28D177-20DB-4B54-A9A5-7B6478F3CE3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5000" cy="2513160"/>
            <a:chOff x="0" y="914400"/>
            <a:chExt cx="8685000" cy="2513160"/>
          </a:xfrm>
        </p:grpSpPr>
        <p:sp>
          <p:nvSpPr>
            <p:cNvPr id="49" name=""/>
            <p:cNvSpPr/>
            <p:nvPr/>
          </p:nvSpPr>
          <p:spPr>
            <a:xfrm>
              <a:off x="228240" y="914400"/>
              <a:ext cx="2513880" cy="251316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5800"/>
              <a:ext cx="4723200" cy="1142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1800" y="1675800"/>
              <a:ext cx="4723200" cy="114228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120" y="1523520"/>
              <a:ext cx="228240" cy="14482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7280" y="1209240"/>
              <a:ext cx="261360" cy="13705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43992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0600" indent="-40176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7960" indent="-3826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6760" indent="-38736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4381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Životni ciljevi adolescen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76360" y="5589360"/>
            <a:ext cx="563868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Dubravka Miljković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20.ožujka 2009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692280"/>
            <a:ext cx="410364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34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učite (bolje) postavljati cilj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-166" b="13"/>
          <a:stretch/>
        </p:blipFill>
        <p:spPr>
          <a:xfrm>
            <a:off x="5003640" y="2060640"/>
            <a:ext cx="320832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53. – 197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Imate li jasne i napisane svoje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ž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ivotne ciljeve?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16560" y="2362320"/>
            <a:ext cx="375588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3341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Comic Sans MS"/>
              </a:rPr>
              <a:t>Dok ih ne potvrdite riječima na papiru vaši su ciljevi samo sjeme bez zemlj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bao sam više gledati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5680" y="2514600"/>
            <a:ext cx="90583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-414360"/>
            <a:ext cx="715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John M. Godda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Ako stvarno znaš što želiš od života, začuđujuće je koliko će se prilika ukazati da ti pomogne to ostvarit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16520" y="1981080"/>
            <a:ext cx="26766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19720" y="4724280"/>
            <a:ext cx="13716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 Krop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9396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7480" y="25146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45720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cc9900"/>
                </a:solidFill>
                <a:latin typeface="Arial"/>
              </a:rPr>
              <a:t>Veliki snovi ...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640" y="-1190520"/>
            <a:ext cx="16002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i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228600"/>
            <a:ext cx="3116160" cy="322272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pecifič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zitiv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mjerljiv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ostižn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 rokom ostvarenj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19051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b3705"/>
                </a:solidFill>
                <a:latin typeface="Times New Roman"/>
              </a:rPr>
              <a:t>podciljevi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140000">
            <a:off x="5065200" y="2021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66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294000"/>
            <a:ext cx="7543800" cy="356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Što žel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92360" y="1989000"/>
            <a:ext cx="5973840" cy="3383280"/>
            <a:chOff x="1692360" y="1989000"/>
            <a:chExt cx="5973840" cy="33832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1692360" y="1989000"/>
              <a:ext cx="5973840" cy="33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692360" y="1989000"/>
              <a:ext cx="5973840" cy="33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87280" y="55166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292929"/>
                </a:solidFill>
                <a:latin typeface="Comic Sans MS"/>
              </a:rPr>
              <a:t>- Krešo, napuštam te. Možeš zadržati zdjelu, ali ja uzimam vodu i sve kamenčić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2997360"/>
            <a:ext cx="2952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ova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lava, popularno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Ljepota - imid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92360" y="189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anjski (ekstrinzični) ciljev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0574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189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nutarnji (intrinzični) ciljev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048120"/>
            <a:ext cx="3200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sobni rast i razvoj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oprinos zajednic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liski odnosi s ljudi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21337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184480" cy="3587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71800" y="6248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9933"/>
                </a:solidFill>
                <a:latin typeface="Arial"/>
              </a:rPr>
              <a:t>VRIJEDNOST CILJE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2421000"/>
            <a:ext cx="5977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ntrinzični ciljevi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ovezani sa životnim zadovoljstvo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kstrinzični ciljevi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često umanjuju životno zadovoljstv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671920" cy="1833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838160" cy="2224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ve to veze 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Times New Roman"/>
              </a:rPr>
              <a:t>Zaš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58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Teorija samo-određenj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životno zadovoljstvo ovisi o zadovoljenju </a:t>
            </a:r>
            <a:r>
              <a:rPr b="1" lang="en-US" sz="2800" spc="-1" strike="noStrike">
                <a:solidFill>
                  <a:srgbClr val="9b3705"/>
                </a:solidFill>
                <a:latin typeface="Times New Roman"/>
                <a:ea typeface="Times New Roman"/>
              </a:rPr>
              <a:t>temeljnih psiholoških potreb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75444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5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Times New Roman"/>
              </a:rPr>
              <a:t>Temeljne psihološke potre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554960" cy="50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Kompetencij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Autonomij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Times New Roman"/>
              </a:rPr>
              <a:t>Odnosi s drugim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151160" y="2819520"/>
            <a:ext cx="438156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Kompetent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Osjećaj da smo sposobni i djelotvorni u onome što radimo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211640" y="3016080"/>
            <a:ext cx="4176720" cy="33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V="1">
            <a:off x="1295280" y="225360"/>
            <a:ext cx="1800" cy="54165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5638680"/>
            <a:ext cx="7010640" cy="1800"/>
          </a:xfrm>
          <a:prstGeom prst="line">
            <a:avLst/>
          </a:prstGeom>
          <a:ln w="38160">
            <a:solidFill>
              <a:srgbClr val="0d0d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ješti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971800"/>
            <a:ext cx="15228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4600" y="190512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zazov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5486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5627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049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5562720"/>
            <a:ext cx="14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295280" y="682560"/>
            <a:ext cx="3962520" cy="396864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1520640"/>
            <a:ext cx="4114800" cy="4120920"/>
          </a:xfrm>
          <a:prstGeom prst="line">
            <a:avLst/>
          </a:prstGeom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038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d0d13"/>
                </a:solidFill>
                <a:latin typeface="Times New Roman"/>
              </a:rPr>
              <a:t>DOS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114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d0d13"/>
                </a:solidFill>
                <a:latin typeface="Times New Roman"/>
              </a:rPr>
              <a:t>APATIJ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838080"/>
            <a:ext cx="1249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d0d13"/>
                </a:solidFill>
                <a:latin typeface="Times New Roman"/>
              </a:rPr>
              <a:t>ZAN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4648320"/>
            <a:ext cx="6782040" cy="99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33520"/>
            <a:ext cx="1143000" cy="5105160"/>
          </a:xfrm>
          <a:prstGeom prst="rect">
            <a:avLst/>
          </a:prstGeom>
          <a:solidFill>
            <a:srgbClr val="66ffff"/>
          </a:solidFill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d0d13"/>
                </a:solidFill>
                <a:latin typeface="Times New Roman"/>
              </a:rPr>
              <a:t>ANKSIOZN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Times New Roman"/>
              </a:rPr>
              <a:t>Autonom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osjećaj da sami donosimo odluke koje su važne za naš život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264280" y="1981080"/>
            <a:ext cx="2938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nomija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060640"/>
            <a:ext cx="5257800" cy="394344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Times New Roman"/>
              </a:rPr>
              <a:t>Povezanost – odnosi s drug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</a:rPr>
              <a:t>osjećaj da smo povezani i u skladnim odnosima s važnim ljudima u našem životu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5272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Times New Roman"/>
              </a:rPr>
              <a:t>Svi trebamo osjećaj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37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posoban sa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mam slobodu izbo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volim i voljen sa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00720" y="3255840"/>
            <a:ext cx="394632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06864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kumulacija takvih iskusta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ugoročno životno zadovoljstv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27640" y="357336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inzični cilje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448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2196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zravno zadovoljavaju temeljne psihološke potreb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6600" indent="2196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donose životnom zadovoljstvu, dugoročn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35002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786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gocentrizam adolescen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23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b3705"/>
                </a:solidFill>
                <a:latin typeface="Arial"/>
              </a:rPr>
              <a:t>pojačana svijest o sebi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jerovanje da su svi za njih zainteresirani kao što su i oni sami (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vi me gledaju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sjećaj vlastite jedinstvenosti (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nitko me ne razumije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4038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54440" cy="2457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490212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kstrinzični cilje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618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čine nas ovisnima o vanjskim okolnosti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618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možemo postati robovi mode, statusnih simbola, zaba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618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talno se moramo natjecati s drugi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8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1800"/>
                <a:tab algn="l" pos="8110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506920" y="981000"/>
            <a:ext cx="2702160" cy="54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čki 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3679920" cy="38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370512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7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mna strana američkog s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817720" y="2708280"/>
            <a:ext cx="3506760" cy="35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52578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56d47"/>
                </a:solidFill>
                <a:latin typeface="Times New Roman"/>
              </a:rPr>
              <a:t>Ti si nešto posebno!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54936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9b3705"/>
                </a:solidFill>
                <a:latin typeface="Comic Sans MS"/>
              </a:rPr>
              <a:t>Divan si!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20040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Lucida Console"/>
              </a:rPr>
              <a:t>Neka ti voljenje sebe postane navika!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8288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71d15b"/>
                </a:solidFill>
                <a:latin typeface="Monotype Corsiva"/>
              </a:rPr>
              <a:t>Nitko nije kao ti!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poštovanje bez pokrić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1337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adovoljstvo sobom: primarni cilj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pjeh: zgodan nusproduk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388620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uspjeh: primarni cilj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adovoljstvo sobom: ugodan nusproduk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213372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ahoma"/>
              </a:rPr>
              <a:t>depresija u poras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2438280"/>
            <a:ext cx="609480" cy="18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1676520"/>
            <a:ext cx="1440" cy="457200"/>
          </a:xfrm>
          <a:prstGeom prst="line">
            <a:avLst/>
          </a:prstGeom>
          <a:ln w="381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Čemu pripisujemo (ne)uspj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reć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ežini (lakoći) zadatk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osobnosti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alaganj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227640" y="1981080"/>
            <a:ext cx="10083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olescenti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7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 intrinzični i ekstrinzični ciljevi povezani su sa životnim zadovoljstvom, ali intrinzični puno viš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64000" y="3141720"/>
            <a:ext cx="2737080" cy="2450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9320" y="616572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javec, Brdar, Miljković, 2005., 2006., 2007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388764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826920" y="932040"/>
            <a:ext cx="7199640" cy="4991040"/>
            <a:chOff x="826920" y="932040"/>
            <a:chExt cx="7199640" cy="4991040"/>
          </a:xfrm>
        </p:grpSpPr>
        <p:sp>
          <p:nvSpPr>
            <p:cNvPr id="244" name=""/>
            <p:cNvSpPr/>
            <p:nvPr/>
          </p:nvSpPr>
          <p:spPr>
            <a:xfrm>
              <a:off x="826920" y="932040"/>
              <a:ext cx="7199640" cy="499104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06120" y="1022040"/>
              <a:ext cx="7021800" cy="48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69560" y="2107800"/>
              <a:ext cx="5813640" cy="2929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69560" y="2107800"/>
              <a:ext cx="5813640" cy="2929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69560" y="210780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06200" y="5037120"/>
              <a:ext cx="6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6200" y="4675320"/>
              <a:ext cx="63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6200" y="4313880"/>
              <a:ext cx="63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6200" y="3932640"/>
              <a:ext cx="6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6200" y="3570840"/>
              <a:ext cx="63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6200" y="3210840"/>
              <a:ext cx="63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6200" y="2848680"/>
              <a:ext cx="6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6200" y="2467800"/>
              <a:ext cx="6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6200" y="2107800"/>
              <a:ext cx="6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6160" y="2486880"/>
              <a:ext cx="3881880" cy="2350440"/>
            </a:xfrm>
            <a:custGeom>
              <a:avLst/>
              <a:gdLst/>
              <a:ahLst/>
              <a:rect l="l" t="t" r="r" b="b"/>
              <a:pathLst>
                <a:path w="241" h="130">
                  <a:moveTo>
                    <a:pt x="0" y="130"/>
                  </a:moveTo>
                  <a:lnTo>
                    <a:pt x="121" y="48"/>
                  </a:lnTo>
                  <a:lnTo>
                    <a:pt x="241" y="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88640" y="4783320"/>
              <a:ext cx="96480" cy="107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37680" y="3301200"/>
              <a:ext cx="96480" cy="107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70880" y="2432880"/>
              <a:ext cx="96480" cy="107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2400" y="4891320"/>
              <a:ext cx="35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520" y="453276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2760" y="416916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,5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31520" y="378684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2760" y="34279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,5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6680" y="3067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34320" y="27043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6680" y="2321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4320" y="19634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05400" y="5289840"/>
              <a:ext cx="431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bar          vrlo dobar           odličan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3355920" y="1339920"/>
              <a:ext cx="274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6120" y="1022040"/>
              <a:ext cx="7021800" cy="481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19280" y="1125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b0d0d"/>
                </a:solidFill>
                <a:latin typeface="Times New Roman"/>
              </a:rPr>
              <a:t>Opći indeks optimizma i školski uspje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623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b0d0d"/>
                </a:solidFill>
                <a:latin typeface="Arial"/>
              </a:rPr>
              <a:t>Mijočević, 2006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iranje inform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že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boljšanj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mćenj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dlučivanj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kritičkog mišljenj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amoreguliranog učenj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295360"/>
            <a:ext cx="396108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187280" y="1052640"/>
            <a:ext cx="7054920" cy="4733640"/>
            <a:chOff x="1187280" y="1052640"/>
            <a:chExt cx="7054920" cy="4733640"/>
          </a:xfrm>
        </p:grpSpPr>
        <p:sp>
          <p:nvSpPr>
            <p:cNvPr id="277" name=""/>
            <p:cNvSpPr/>
            <p:nvPr/>
          </p:nvSpPr>
          <p:spPr>
            <a:xfrm>
              <a:off x="1187280" y="1052640"/>
              <a:ext cx="7054920" cy="47336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74400" y="1139400"/>
              <a:ext cx="6860880" cy="45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12640" y="4924080"/>
              <a:ext cx="566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2640" y="4519800"/>
              <a:ext cx="566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12640" y="4113360"/>
              <a:ext cx="566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12640" y="3710520"/>
              <a:ext cx="566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2640" y="3323160"/>
              <a:ext cx="566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2640" y="2917080"/>
              <a:ext cx="566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12640" y="2512440"/>
              <a:ext cx="5663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2640" y="2107440"/>
              <a:ext cx="566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4560" y="3023280"/>
              <a:ext cx="580680" cy="1900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9800" y="2953080"/>
              <a:ext cx="561600" cy="1970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7400" y="2653560"/>
              <a:ext cx="580680" cy="2269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92640" y="2566440"/>
              <a:ext cx="563400" cy="2357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12640" y="2107440"/>
              <a:ext cx="1080" cy="28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42800" y="492408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2800" y="4519800"/>
              <a:ext cx="6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42800" y="4113360"/>
              <a:ext cx="6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42800" y="3710520"/>
              <a:ext cx="6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42800" y="3323160"/>
              <a:ext cx="6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42800" y="2917080"/>
              <a:ext cx="6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42800" y="2512440"/>
              <a:ext cx="69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42800" y="2107440"/>
              <a:ext cx="69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33000" y="1263240"/>
              <a:ext cx="1740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05480" y="26535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,4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7840" y="25822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,8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81800" y="2283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,25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58880" y="21963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,7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3840" y="4783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13840" y="4380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13840" y="39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13840" y="3569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13840" y="3183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90360" y="2775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90000" y="2372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0000" y="1968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19720" y="5171760"/>
              <a:ext cx="50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voljan          dobar        vrlo dobar       odličan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1260000" y="4384800"/>
              <a:ext cx="27432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400" y="1139400"/>
              <a:ext cx="6860880" cy="45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547640" y="333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b0d0d"/>
                </a:solidFill>
                <a:latin typeface="Times New Roman"/>
              </a:rPr>
              <a:t>Optimizam i uspjeh iz hrvatskog jezik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684360" y="1052640"/>
            <a:ext cx="7637400" cy="5568840"/>
            <a:chOff x="684360" y="1052640"/>
            <a:chExt cx="7637400" cy="5568840"/>
          </a:xfrm>
        </p:grpSpPr>
        <p:sp>
          <p:nvSpPr>
            <p:cNvPr id="318" name=""/>
            <p:cNvSpPr/>
            <p:nvPr/>
          </p:nvSpPr>
          <p:spPr>
            <a:xfrm>
              <a:off x="684360" y="1052640"/>
              <a:ext cx="7637400" cy="556884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9720" y="1155240"/>
              <a:ext cx="7209000" cy="536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96640" y="2300040"/>
              <a:ext cx="5945400" cy="330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96640" y="5602320"/>
              <a:ext cx="594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96640" y="5124960"/>
              <a:ext cx="5945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96640" y="4667760"/>
              <a:ext cx="5945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6640" y="4190040"/>
              <a:ext cx="5945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6640" y="3712320"/>
              <a:ext cx="594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96640" y="3234600"/>
              <a:ext cx="5945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96640" y="2777400"/>
              <a:ext cx="5945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96640" y="2300040"/>
              <a:ext cx="5945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96640" y="2300040"/>
              <a:ext cx="5945400" cy="330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42680" y="2756880"/>
              <a:ext cx="595080" cy="2846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28400" y="2777400"/>
              <a:ext cx="593280" cy="2826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15560" y="3129840"/>
              <a:ext cx="594720" cy="2472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02720" y="3214080"/>
              <a:ext cx="594720" cy="2390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96640" y="2300040"/>
              <a:ext cx="1440" cy="33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22120" y="5602320"/>
              <a:ext cx="7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22120" y="5124960"/>
              <a:ext cx="7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22120" y="4667760"/>
              <a:ext cx="7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22120" y="4190040"/>
              <a:ext cx="7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22120" y="3712320"/>
              <a:ext cx="7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22120" y="3234600"/>
              <a:ext cx="7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22120" y="2777400"/>
              <a:ext cx="7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22120" y="2300040"/>
              <a:ext cx="74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0560" y="1299960"/>
              <a:ext cx="1617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15400" y="2320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5680" y="23410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,97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20000" y="2775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,16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31400" y="27550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,47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82000" y="5437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82000" y="4958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82000" y="450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82000" y="402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82000" y="3548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8800" y="3066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49160" y="261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49160" y="213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44040" y="5894640"/>
              <a:ext cx="493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voljan   dobar       vrlo dobar     odličan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775800" y="5072400"/>
              <a:ext cx="27432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99720" y="1155240"/>
              <a:ext cx="7209000" cy="536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403280" y="33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b0d0d"/>
                </a:solidFill>
                <a:latin typeface="Times New Roman"/>
              </a:rPr>
              <a:t>Pesimizam i uspjeh iz hrvatskog jezik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navljajte za mno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35956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še nikada neću prigovarati svom djetet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76728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8546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622920" cy="49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392200" y="476280"/>
            <a:ext cx="37656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 sam ja adolescen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35280" y="1700280"/>
            <a:ext cx="5400720" cy="404964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zi kako se ponašaš prema mlađim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0" r="0" b="81408"/>
          <a:stretch/>
        </p:blipFill>
        <p:spPr>
          <a:xfrm>
            <a:off x="395280" y="2492280"/>
            <a:ext cx="3887640" cy="30034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rcRect l="0" t="39908" r="0" b="40555"/>
          <a:stretch/>
        </p:blipFill>
        <p:spPr>
          <a:xfrm>
            <a:off x="4572000" y="1476360"/>
            <a:ext cx="3529080" cy="24861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rcRect l="0" t="19760" r="0" b="60509"/>
          <a:stretch/>
        </p:blipFill>
        <p:spPr>
          <a:xfrm>
            <a:off x="4572000" y="41148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zi kako se ponašaš prema mlađim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59447" r="0" b="0"/>
          <a:stretch/>
        </p:blipFill>
        <p:spPr>
          <a:xfrm>
            <a:off x="2646360" y="1557360"/>
            <a:ext cx="37828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rijednosti adolescen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U zadnjih 20 godina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jačana briga za osobnu dobrobit, samoispunjenje i samoizražavanj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manjena briga za dobrobit drugih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6040" y="2160720"/>
            <a:ext cx="375444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1746360"/>
            <a:ext cx="5650200" cy="42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0" t="0" r="0" b="60876"/>
          <a:stretch/>
        </p:blipFill>
        <p:spPr>
          <a:xfrm>
            <a:off x="990720" y="0"/>
            <a:ext cx="7619760" cy="2571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rcRect l="0" t="37686" r="0" b="23191"/>
          <a:stretch/>
        </p:blipFill>
        <p:spPr>
          <a:xfrm>
            <a:off x="990720" y="2590920"/>
            <a:ext cx="7619760" cy="25714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76830" r="0" b="0"/>
          <a:stretch/>
        </p:blipFill>
        <p:spPr>
          <a:xfrm>
            <a:off x="990720" y="5181480"/>
            <a:ext cx="761976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tomija tinejdžerskog moz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023920"/>
            <a:ext cx="914400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709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i načini utjecanja na životno zadovoljstvo i sre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. Poticanje pozitivne interpretacije životnih događanj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52653" b="75"/>
          <a:stretch/>
        </p:blipFill>
        <p:spPr>
          <a:xfrm>
            <a:off x="6300720" y="3573360"/>
            <a:ext cx="2486160" cy="2522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48563" t="0" r="48" b="75"/>
          <a:stretch/>
        </p:blipFill>
        <p:spPr>
          <a:xfrm>
            <a:off x="3635280" y="3584520"/>
            <a:ext cx="2686320" cy="2506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08360" y="6237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apola ćelav ili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vni načini utjecanja na životno zadovoljstvo i sre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636264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. Postavljanje i ostvarivanje životnih ciljev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2962440"/>
            <a:ext cx="7127640" cy="38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o si 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743200"/>
            <a:ext cx="8001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Čovjek nakon smrti dospije izravno u raj. Dok mu pokazuje gdje je i kako će se najbolje snaći, sv. Petar mu pokaže i nekog tipa koji je, kaže, bio najveći pjesnik svoga dob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Čovjek, s nevjericom, gleda u sv. Petr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29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Oprosti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, kaže mu, 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ali ja sam poznavao ovog čovjeka. Bio je običan postolar. Nikada nije niti polazio školu, niti naučio pisati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29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92929"/>
                </a:solidFill>
                <a:latin typeface="Times New Roman"/>
              </a:rPr>
              <a:t>Upravo tako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– odgovori mu sv. Pet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8120" y="0"/>
            <a:ext cx="3125880" cy="27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-2 d.o.o.</dc:creator>
  <dc:description/>
  <dc:language>en-US</dc:language>
  <cp:lastModifiedBy>Jagoda Ille</cp:lastModifiedBy>
  <dcterms:modified xsi:type="dcterms:W3CDTF">2009-06-09T14:26:37Z</dcterms:modified>
  <cp:revision>2</cp:revision>
  <dc:subject/>
  <dc:title>Slide 1</dc:title>
</cp:coreProperties>
</file>